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  <p:sldId id="273" r:id="rId53"/>
    <p:sldId id="274" r:id="rId54"/>
    <p:sldId id="275" r:id="rId55"/>
    <p:sldId id="276" r:id="rId56"/>
    <p:sldId id="277" r:id="rId57"/>
    <p:sldId id="278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slide" Target="slides/slide18.xml"/><Relationship Id="rId54" Type="http://schemas.openxmlformats.org/officeDocument/2006/relationships/slide" Target="slides/slide19.xml"/><Relationship Id="rId55" Type="http://schemas.openxmlformats.org/officeDocument/2006/relationships/slide" Target="slides/slide20.xml"/><Relationship Id="rId56" Type="http://schemas.openxmlformats.org/officeDocument/2006/relationships/slide" Target="slides/slide21.xml"/><Relationship Id="rId57" Type="http://schemas.openxmlformats.org/officeDocument/2006/relationships/slide" Target="slides/slide22.xml"/><Relationship Id="rId58" Type="http://schemas.openxmlformats.org/officeDocument/2006/relationships/slide" Target="slides/slide23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dt" idx="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ftr" idx="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 type="sldNum" idx="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5ECE-F1B6-4685-976A-2F03FD70E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1396-DED3-492C-B020-68207B84D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9068-F889-419C-9ED4-B5B380E9F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64C9-96B5-4F3E-90C0-A639DBD22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1490-2362-44C9-A2BD-A3836F21C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D7BC-9EA0-4D8A-841E-E92F3E6B3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BFDC-B1E9-4678-B2BD-F135BF01E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0A5A-02B9-48D9-BB68-2823A382B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he restore of Intro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F035-01D2-408D-8A6F-6B97B9DA3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backup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0507-02D4-4874-BF5B-B8E3EDD11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 form, list, account, register, and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CA64-ADAE-4B2A-89A8-C94D3B450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he QuickBooks inte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9EC0-D1C0-49E9-97CD-764B2C439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he QuickBooks User Interface fe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15CB-1E1B-4ADF-9693-5844C9941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AE64-D0F8-4C46-8592-901C26C38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he Ho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44A6-70D8-4707-B9C2-ECCA7D1B1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3594-3EF0-4AE7-9F30-02B19B91F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he help op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157F-DC50-4EDE-9D77-151F61DA3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3F61-BDA1-4862-B8F8-64CD7EBDD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0A46-1715-4C18-9E90-E719B2746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he product information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C15F-5C3F-4A9B-998A-A876E9764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4139-156F-467C-8628-5907D845F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564E-050B-481F-A8E9-33473EA4C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25E9-C1D7-4AD7-BADC-51DE150A5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8867-4B78-4D85-AD3B-172B63CBA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C6F0-D306-4A30-8EB6-1C495638F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8134-9722-48BE-BE73-0508C19F109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516A-2289-407E-B0C2-32DB23C5BB0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CDDE-516E-47D1-B5E2-A573872AF6B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DEA6-9D24-412D-BDDA-A668F709D0A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EF507-8A8C-4758-B90F-E7360555022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B5E52-87C3-443C-9426-07AB7478833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9EAD-BF94-4CAF-9826-70CFFFD2F86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6AD70-6C2E-4AF5-9807-5F4ACF245F1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DF933-A2CC-480A-889E-782AED5D4A3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65938-C39B-4F9C-AF0D-A07EC66D54D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B51D-F260-40BE-AF5D-512801D17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03BDE-5270-4FE9-9F2A-2A597DA211E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5FD0E-F9F9-4359-83B4-BD44547C745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EF09E-3750-4CE6-A9C2-76336083F78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1A36B-B57A-48B8-9DEB-BC407273A23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0E356-5109-478A-9E6A-1F9CEFAEC71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FA9DA-EAEF-4006-A9A3-5AF56B0A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DA290-F0CC-41BF-84FE-A21DBEF5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68546-C623-49FF-BB48-5ECF5BB7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2E9A4-690A-4434-AFC8-C8DF1160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741F7-196D-4B84-8B78-6BDF9B9A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2EA4-81ED-4474-9762-1A768F0DEC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1B671-2594-490A-9565-0F22F14F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64E41-DA05-4890-B2FB-98B7A83B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FF2F2-9DC3-4D9A-9FD3-C614CDF4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A23F2-5026-453E-9C6F-37EB064A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621C2-5416-4EC1-A2CA-6CD8C71E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6A5D9-EAF1-4AE8-8507-ED66A30C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1E9F6-9D13-4DA0-B44F-A2CFB9F1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7E80D-9CE5-45FD-95FB-032EA5BB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94C43-761A-477E-A7EF-42B19493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8F66F9-08AB-4163-9C94-E3B23A74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E9BD2E-720D-42D2-991A-FBC74E40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1EC0D-B692-4918-A8C8-9EB21898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29B31A-F12F-4CAF-B010-AF982BFB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9DB5C1-2430-4588-8C8D-D47BDEAC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3145C-3E99-42B1-BCC4-42B11787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F7C63A-9365-425D-A94A-D3AE54F9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9FC48D-FED1-410D-B3D2-9B493D1C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F3F1B9-A672-4F52-8E58-9BEBDB58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22C1AA-C10C-40C0-A387-7DC99184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9FC319-1417-45D5-8A4E-333C865B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98628D-DED5-4167-BE14-7663B423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ED0A60-DE17-48DF-958C-850FE0E3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5E13-F918-4C4A-973B-91E090CFE9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39A4C-2D69-49C3-9B39-686808BD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B8968-3501-4FB5-B510-5459AAA6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293E7-0F49-4EE3-8C1E-1F00D472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EFC65-DB9D-4AF3-A75F-63250A19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F6593-FC58-41FE-80D8-DB739342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E2EA9-9FAB-45A2-9393-27C8297D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7B713-62D8-4F48-97ED-AE36B5C0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5DB10-0743-4C55-B818-A45EA80B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A6EEE-59F4-409E-944F-1810CB4A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4BDF5-EBE9-48C9-B6BD-95168B57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5E8F-A636-4186-9E6F-84B890671A7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95678-1A38-47F5-8EFA-11423984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C76CD9-1AFB-43D2-B4BC-DAA800CD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339421-EBD5-4726-979E-411626C6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0A0FB3-FBE1-4C78-BE73-5CBAD1C5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15A10A-17DA-4BD6-B723-C2C8ACB0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DDC010-8CFD-4DDF-B300-55E50492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4B81B7-98F9-43FD-BFC7-4D72C31C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8229B3-2A13-4837-8610-A1436763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277743-469A-4DE6-813E-AEEC772D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AC0D9-D8E3-4285-8BF5-3CA3F6FB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9E29-E723-44FA-A5BD-C4A5CED4692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B34DA-183B-4888-968E-105E4D9C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B7103-3426-49F4-8FF5-29804AE7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D25E2A-4B8C-42BE-871E-FC47B3A0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B0FEC-68BD-4941-A3E4-7DDAD101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8D902-0F39-42B0-8929-27747432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ADCF88-2711-4831-9916-A7DAA850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615D23-830D-496D-8090-25E0E026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F1DDC-DD26-4E8E-A8CD-0593255B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078F0D-8102-444B-B25F-60CF039A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DA15B-8632-41EA-89D1-710AF47A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EC10-FFF7-43AD-905C-5931A86ABCE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CB8782-8141-4303-B085-DDD2933A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F07C07-3771-4D15-832F-15293251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A2C4D9-AF5C-4C6D-B45B-CA716058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FB4A58-43BB-4D7C-AF1D-4F7B19B6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87DCBF-5998-4168-9D8F-03CE8203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03161-EB32-4CA6-AEAD-1365D4B1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258BFE-3DD6-44FC-A8FA-101C4756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9F0BD9-8E7C-4D1D-B782-4B36D270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444CB6-367C-410F-A4B3-A236D9DF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097DCE-42CC-4E7D-B5AE-FB65E10F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5D78-D9FB-43A3-B1ED-6AF7B7E3A1F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935C19-AC45-4DC5-B4C6-1537C605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6ADDF2-00EF-415D-8979-B819EC49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F0C69E-82A0-4E10-9CE3-5AAD08DC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474D41-2BAE-4A24-B8F9-88AE7108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67568A-8544-4F72-8349-65626CD2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FD11-7C5C-47CF-AAE3-B367FA316C7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4CEF-408C-40FC-8656-0357C416B6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5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8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2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7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1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5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0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fa600"/>
              </a:gs>
              <a:gs pos="50000">
                <a:srgbClr val="abea3c"/>
              </a:gs>
              <a:gs pos="100000">
                <a:srgbClr val="6fa6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fea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519732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214B-DF90-43C6-8FF7-C5C7CD2ABA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4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9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2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1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5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4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4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AFD4-7AC9-4CC5-AA83-9B14306C20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8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3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7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1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EA7C-65A1-4887-95E0-AC11D142E6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7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17A2-309B-441E-B523-CD162FBD25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0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A874-05A2-4E23-AFF9-4F72673158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2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3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C5E7-BE5C-4701-A229-D7A10B6CBE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6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5AC4-BCD1-4FE0-9F17-A26A178AB5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Rectangle 1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14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Lucida Sans Unicod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accrual basi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thod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venues and expenses are recognized when the transaction occu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cash basi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tho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venues and expenses are recognized when the cash changes hand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 QuickBooks, you can create reports for either metho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1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ctitious sample company used in the text boo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hoto studio and retail corpo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service and a merchandising compan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s two locations, one in San Jose and Walnut Cree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94" name=""/>
          <p:cNvSpPr txBox="1"/>
          <p:nvPr/>
        </p:nvSpPr>
        <p:spPr>
          <a:xfrm>
            <a:off x="38088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QuickBooks has three primary types of fil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ata files (extension  “.QBW”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o enter data or create report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ackup files (extension  “.QBB”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condensed, stable version of the data fi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store into a .QBW file before us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ortable files (extension “.QBM”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y condens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o move your QuickBooks data to another comput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store into a .QBW file before us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96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unch the QuickBooks progr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viously opened data file will be open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open a different file, select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i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nu and then selec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pen or Restore Compan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97" name="Picture 4" descr="C:\Users\pat\AppData\Local\Temp\SNAGHTML2d307ea.PNG"/>
          <p:cNvPicPr/>
          <p:nvPr/>
        </p:nvPicPr>
        <p:blipFill>
          <a:blip r:embed="rId2"/>
          <a:stretch/>
        </p:blipFill>
        <p:spPr>
          <a:xfrm>
            <a:off x="2109960" y="3962520"/>
            <a:ext cx="4924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in reasons for restoring backup files in QuickBooks to recover damaged or lost data fi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toring does not add information to your f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5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unch QuickBoo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i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nu &gt;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pen o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store Compan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llow on screen dire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w “.QBW” f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sures safety of your data f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ine backup safer than loc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create a backup, select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i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nu and then choos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Backu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heduled backup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5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s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count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ister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em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lend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6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91680" cy="1170000"/>
          </a:xfrm>
          <a:prstGeom prst="rect">
            <a:avLst/>
          </a:prstGeom>
          <a:ln w="0">
            <a:noFill/>
          </a:ln>
        </p:spPr>
      </p:pic>
      <p:sp>
        <p:nvSpPr>
          <p:cNvPr id="15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various methods for entering information and transac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Home Pag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ent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napsho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con Ba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Text Box 7"/>
          <p:cNvSpPr/>
          <p:nvPr/>
        </p:nvSpPr>
        <p:spPr>
          <a:xfrm>
            <a:off x="380880" y="1523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8"/>
          <p:cNvSpPr/>
          <p:nvPr/>
        </p:nvSpPr>
        <p:spPr>
          <a:xfrm>
            <a:off x="3808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con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10"/>
          <p:cNvSpPr/>
          <p:nvPr/>
        </p:nvSpPr>
        <p:spPr>
          <a:xfrm>
            <a:off x="380880" y="2963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ome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Line 12"/>
          <p:cNvSpPr/>
          <p:nvPr/>
        </p:nvSpPr>
        <p:spPr>
          <a:xfrm>
            <a:off x="1828800" y="2057400"/>
            <a:ext cx="380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Line 16"/>
          <p:cNvSpPr/>
          <p:nvPr/>
        </p:nvSpPr>
        <p:spPr>
          <a:xfrm>
            <a:off x="1981080" y="3192480"/>
            <a:ext cx="2286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Line 18"/>
          <p:cNvSpPr/>
          <p:nvPr/>
        </p:nvSpPr>
        <p:spPr>
          <a:xfrm>
            <a:off x="1447920" y="1752480"/>
            <a:ext cx="761760" cy="76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2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me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5" name="Picture 9" descr="C:\Users\DPEMBR~1\AppData\Local\Temp\SNAGHTML1840610.PNG"/>
          <p:cNvPicPr/>
          <p:nvPr/>
        </p:nvPicPr>
        <p:blipFill>
          <a:blip r:embed="rId1"/>
          <a:stretch/>
        </p:blipFill>
        <p:spPr>
          <a:xfrm>
            <a:off x="2392200" y="1535040"/>
            <a:ext cx="644076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73" name=""/>
          <p:cNvSpPr txBox="1"/>
          <p:nvPr/>
        </p:nvSpPr>
        <p:spPr>
          <a:xfrm>
            <a:off x="456840" y="17226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 overview of the QuickBooks product li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me of the basic principles of account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accounting behind the scenes in QuickBook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 overview of QuickBooks data files and typ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pening Portable Fi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ow to restore backup fil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ntering Transactions in QuickBook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QuickBooks user interface featur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bout QuickBooks help and suppor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6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on tasks are shown as icon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ve reg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ustome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endo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mploye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mpan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ank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count Bala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lect activit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be customiz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20" name="Picture 4" descr="C:\Users\DPEMBR~1\AppData\Local\Temp\SNAGHTML18a73df.PNG"/>
          <p:cNvPicPr/>
          <p:nvPr/>
        </p:nvPicPr>
        <p:blipFill>
          <a:blip r:embed="rId2"/>
          <a:stretch/>
        </p:blipFill>
        <p:spPr>
          <a:xfrm>
            <a:off x="554040" y="3157560"/>
            <a:ext cx="803592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ety of support resourc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access the support resources, select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elp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nu and then select QuickBooks Help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ickBooks Learning Cen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 overview of the QuickBooks product li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me of the basic principles of account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accounting behind the scenes in QuickBook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 overview of QuickBooks data files and typ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pening Portable Fi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ow to restore backup fil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ntering Transactions in QuickBook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QuickBooks user interface featur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bout QuickBooks help and suppor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75" name=""/>
          <p:cNvSpPr txBox="1"/>
          <p:nvPr/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nline Edi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46483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emier and Enterpri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ccounta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ntract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nprofi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nufacturing &amp; Wholesa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fessional Servi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tai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tches provided by Intui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xes problems with earlier rele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verify the release level, pres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trl+1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or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F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while QuickBooks is run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80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asses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financial position of the organization relative to its debts (liabilitie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s capabilities to satisfy those debts and continue operations (assets), an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difference between liabilities and assets (net worth or equity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ccounting Equation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sets = Liabilities + Equity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637480" cy="1230120"/>
          </a:xfrm>
          <a:prstGeom prst="rect">
            <a:avLst/>
          </a:prstGeom>
          <a:ln w="0">
            <a:noFill/>
          </a:ln>
        </p:spPr>
      </p:pic>
      <p:sp>
        <p:nvSpPr>
          <p:cNvPr id="1482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siness transactions are recorded in several types of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ledger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called accou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ummary of all transactions is called the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Genera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Ledg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listing of every account is called the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Chart of Accoun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account has a type (i.e., asset, liability, equity, income, or expens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marily five account typ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sse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iabil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qu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com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pen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tal debits must always equal total credi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bits = Credi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ouble Entry Accoun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very transaction creates a debit in one or more accounts and a credit in one or more accoun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debit might increase or decrease an account; the same is true of credi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pending on the type of accou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bits are not always “bad” and credits are not always “good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4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nsactions are entered in form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voices, Bills and Check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ickBooks handles the debits and credi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7:25:39Z</dcterms:created>
  <dc:creator>The Sleeter Group, Inc.</dc:creator>
  <dc:description/>
  <dc:language>en-US</dc:language>
  <cp:lastModifiedBy>Deborah Pembrook</cp:lastModifiedBy>
  <dcterms:modified xsi:type="dcterms:W3CDTF">2011-12-09T04:23:28Z</dcterms:modified>
  <cp:revision>195</cp:revision>
  <dc:subject/>
  <dc:title>Chapter 1 Introducing QuickBooks</dc:title>
</cp:coreProperties>
</file>